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A14-3470-473D-8535-FAA0B60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E85-408A-464C-81C5-9366094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46A-70A7-4F89-A9D9-1BC44566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023-8564-42CD-8365-EFE71625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FFC-B3A5-4060-8C52-9B3582B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B6-47FB-44A7-93F9-93C27CF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5A3-844D-4DEF-BA20-705668B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697-BD8A-4B22-9440-9DB95252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B10-C3B4-4725-98E4-F05F2D5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3FB-9959-44B2-ABA0-14B02A5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29F-76E6-420D-AA79-29950A1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C8D-05E3-419F-9CBE-907D3E5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ED8-1EF8-4043-B980-A838F7A6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0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505320"/>
            <a:ext cx="8229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48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d. 9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es much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mucho apetit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muchos líquidos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Guardas cama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d. 9 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muchacho enfer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0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1-05-23T16:57:04Z</dcterms:modified>
  <cp:revision>17</cp:revision>
  <dc:subject/>
  <dc:title>Me llamo ________ Clase 7 im La fecha es el 13 de mayo del 2011</dc:title>
</cp:coreProperties>
</file>